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4A30-99BF-4451-B61E-B612E958EA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CA19-2712-47C7-A458-F97C4C49B9E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F687-8737-4877-A62F-BAA71E6BDE8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6EE6-0AF9-4629-9966-AAE9BF9EB97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99374-845F-48BF-BAB3-71E80118496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5B96-FF41-4531-9EEF-D980000C201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49F1-D2EE-440F-AD4C-F7357D17221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6A13-CBA9-45D0-BB60-D44108096AC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B681-041C-4C0B-996A-F704D77E973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4CF4-C1B4-4684-9808-7023811C7FF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B21C-E66D-499E-BCCE-AAE0BC4AE1C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F308-EB25-4194-A4C6-C95B2C615FF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DF6F-9A4C-47A0-9799-68581248632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0E66-7125-4E3D-916F-1D55F2B6C71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957D-2430-4039-8BCC-CD849622FB3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AF35-9EE6-4AFC-9F64-38DADC9D13D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FAD2-AFBF-4824-86B3-B574688B7CD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2584-7C38-4323-BFC0-1FAC704596A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A54E-3159-4681-9513-1695BE6B2A7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1177-4D2F-42F3-82C6-17622662B38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0647-28D4-4B79-8B0E-FD6C18B324C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6F33-65BD-4AA2-A02C-3E3BD4A31A4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717E-62C4-468B-A0E3-94756F1F6F4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5B44-D9A6-4E30-9AA7-15D059CB1F6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843F-CF2D-4A89-BAB4-C9BD7B7A9F6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0EB7-9F87-494E-8674-9C6FEB71549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2064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ryotypes are described by an internationally recognised form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umber refers to the number of chromosomes whilst the X and Y refer to the sex chromosomes, e.g. 46 XX would be a healthy female,46 XY a healthy ma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after any chromosomal abnormalities or findings are described by recognised abbreviations and location is given of the affected part of the chromo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.g. 46,XX,dup(2)(p13p22)   describes a female with 46 chromosomes and a duplication of the short arm of chromosome 2 from bands 13 -2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karyotypes are from an abnormal female. The term "der" refers to a chromosome "derived" from a translocation, or trading of pieces of chromosome between members of different homologous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B7B1-83BD-461C-A4DE-1AC7B1D193B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6A3F-5A6C-4B5D-88A9-F7BBB1A3D79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ADE1-8F7E-433A-B634-0FC6E512ED4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C10A-8EB0-463A-877E-1D997D25C2B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87E4-D7AB-48F8-85E7-EDA11BA54BAA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A523-6BB0-43C5-BB70-26873BCC67E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C118-4123-48E2-929B-7FE6D5BC34F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6F3-DC46-4586-B038-C85E63BA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B52-65F4-4CA1-812F-4C6BE1C4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392B-5BD3-4119-9686-C4A4A36C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10F-6523-4650-A22C-C9C52EB6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65FD-01C1-4CCB-842B-408043B1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F142-EB01-45D3-8477-1FA3059A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1885-98B7-4150-8C61-01246276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0259-0E9F-4031-ABDB-98F1089F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279C-9059-4A3A-B73C-D1C0A8EA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14C4-6A1F-446E-BE73-805B55F5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0C11-7DCC-4557-B048-0869641B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2358-AB06-423E-AD18-FA170922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A00A-5CA2-4A59-BC98-8D36BA88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30C9-0095-4A52-A782-361EB83A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B3DD-10CC-427D-B304-109BF2B8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0F7E-CE2C-4174-B935-17686A3C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A51F-7E89-4DA6-B0EB-6A03213B9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95BE9-F562-4A4A-958E-8ECC6B2B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1D8C1E-ADA4-4CF1-A43E-C580B107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A1B51-1480-43B7-9C4C-E47783B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42E37-BB0C-4AEB-AD6C-539B7138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4EFA0-7FB5-4652-8B2B-629B043B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F93-2F00-4A58-BFFB-438746D4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F44E1-6EA1-4811-9B43-D0AC56F7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A0D35-7081-4AFD-BC61-0F5AE28D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4A0DAA-8EE0-4148-A7B6-193A0D80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931122-AB0C-4770-B01F-0AF07EAC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501A8-2BA9-4491-B990-320F5EAC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20667-3B61-40AF-8B01-87C23947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949D3-7518-40C1-83D5-CD10C562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86B97-9842-47BF-982A-261284D3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43EE-C2B6-4AD4-897D-0FA8836E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EB54-8E28-4A73-A434-918649DD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BC6-EDBF-438F-80CD-E8FC08E4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269A-D1CD-4A67-B04C-71C8C5F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103A-D51F-4D51-A532-1F62145C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EEF9-EEA3-4AB6-AD41-F9B35D5B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D12AE-7ED8-49B3-A862-6CDE961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D81FF-908F-470F-8952-EC39D44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B09A-7BD8-45E3-8246-BD3A0C3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80105-26C6-4412-B3B7-00A16840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AF5B0-1F6A-42CA-BCBD-100EF5F7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D4CE6-D8FE-4DE5-9994-7489F0CA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6DF98-44D8-4595-9D46-6AB893207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49E-382D-45D7-8BC5-D7A1661A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2AE3EF-F7E7-48DE-9249-D5AD44F5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775FF8-FF52-41CE-B95A-16197EFA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EF59C-2CD2-42D7-A3CF-E7718C9B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2403E-2C37-4C09-90F9-DDBED6A0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61ADE-D54E-498B-BBA4-95A930E1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6CC562-C554-4B6D-A506-C22063B0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13B090-A18B-4856-AA99-2BB3D689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3EC676-AD06-408F-8398-4397796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2F41C-52E7-46EF-A094-66D94CA6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33ADB-A68E-4536-AC1B-572F12E0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9497-4287-4A41-8F90-6ED0005F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98FD2E-3753-4B58-A720-1B11A259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1D48E-BDEE-484D-8F0C-0DBA3417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4B990-D674-4B26-B4CC-4562676A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56CCD-4435-43FB-B0CD-D7BB736E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E0D1E4-E46E-4E41-B652-F0462BB6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22B323-F219-4E88-A57E-6B90D85B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BD0CB-A44A-44A0-AD22-631EE3BA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30C51C-9A79-4162-9623-300D9482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A7633D-D158-4364-BE69-4E0A2064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86B369-AC47-4E44-9C78-BCED91A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1EE-038B-48A3-9AD2-A2DC5F42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4A4CCF-4CAC-4C53-AEAF-23E33546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EBC874-04A9-4DC3-8C16-374B331D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CC303-1094-4532-AD2D-08F617CB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2CBDB-2510-40B2-B40B-8441CA01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452972-34B5-4B93-BF97-4BFDFAC0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4E3142-3096-41BF-8F6A-2A8FCEEC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4DAD8E-46E4-49C2-9D2D-9D10ED26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74327D-C009-4EC0-9D77-3BB69469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46E06-2FF9-41CD-B3F6-B3656816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C08C7-9890-496A-8FB4-6CB69DC0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AF17-F2BC-4D61-821E-80EDBF49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B418C-BE8F-42AD-920D-40B4285F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8924B-AF37-44D0-85BA-EB86F2F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E9D35C-7B33-45F0-B287-37794455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608F77-FB95-48AB-8074-EDB0D03D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28BEC-D89A-4DBF-9E90-5E514729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C541B-5619-4E0B-A66C-B074BA97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635EA-7631-426E-B10E-A1FD52A2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F2B65-8CDA-4288-BEF3-1F1C8344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7A26A-1B9D-4905-AE7B-5BE2B115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EB582-B15C-43F5-921D-BD511E98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47DB-9D14-4691-B3A7-2D2E071C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5F72-BAB2-4EB7-A173-EF445AD1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6F89A-1922-4902-805C-47F75D6E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38688-F66F-4C64-82EC-AA6AFE02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EA8C7-3311-4E61-8A53-F3DDF4C2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7EC22-A338-4069-A694-A1736073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85CC6-B7BA-4DF0-9DD5-3DCE2787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61FC2-43EB-4057-A089-2430834E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B515-17B7-4A72-8994-3ECC03B81516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6E85-AF8B-4449-9CDD-F7435D547E6B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74AB-BB50-4945-AFC6-362B050A1BA8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2B03-390F-456D-90F5-9F79D98730B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7D41-7C73-4898-862B-D13B42785740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690-D793-4D0B-AF81-D51BAF2702A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3511-C7D5-40DB-A98D-7E3C08F5485A}" type="datetime">
              <a:rPr b="0" lang="en-US" sz="1200" spc="-1" strike="noStrike">
                <a:solidFill>
                  <a:srgbClr val="fff39d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1D4F-A37E-4110-BB59-3D174AFCE9A6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7AC1-7ECA-4373-B6DF-2AFD6577A865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5A1B-A500-457F-B971-4562348565F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55BA-6D03-4D43-85A7-8766CE44554F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F2F1-53CE-4C5B-BE7F-A607A26731CF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9654-5BA2-4B1F-905E-DA712D48DF67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F26F-F9C5-4753-9A3F-69104C37C86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4F05B-30CB-4FC7-8241-DB1EA67222F2}" type="datetime">
              <a:rPr b="0" lang="en-US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EDFF-CA2B-490F-AAA0-49E1AD943739}" type="slidenum">
              <a:rPr b="1" lang="fr-FR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240" y="2133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CHROMOSOMAL  ANOMALIES 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Slide Number Placeholder 2"/>
          <p:cNvSpPr/>
          <p:nvPr/>
        </p:nvSpPr>
        <p:spPr>
          <a:xfrm>
            <a:off x="13255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BBE5-BAEB-4F03-8397-73A62875C77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3"/>
          <p:cNvSpPr/>
          <p:nvPr/>
        </p:nvSpPr>
        <p:spPr>
          <a:xfrm rot="5400000">
            <a:off x="707652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6108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Century Schoolbook"/>
              </a:rPr>
              <a:t>CHROMOSOMAL ABERRATIONS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763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time due to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ut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or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pontaneou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without any known causal factors)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variation in chromosomal number or struc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ppears in nature: Chromosomal aberration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al aberration may be grouped into two broad class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. Structura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. Numeric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3FB-8469-41FC-A5FC-47BF4F2F5B1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STRUCTURAL CHROMOSOMAL ABERRATIONS 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 structure variations result from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chromosome breakag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roken chromosomes tend to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re-join;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f there is more than one break, rejoining occurs at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not necessarily with the correct end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result is structural changes in the chromosomes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 breakage is caused by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X-rays,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various chemica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and can also occur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spontaneously</a:t>
            </a:r>
            <a:r>
              <a:rPr b="0" lang="en-US" sz="2400" spc="-1" strike="noStrike">
                <a:solidFill>
                  <a:srgbClr val="ff66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re are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four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mmon type of structural aberration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Deletion or Deficienc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Duplication or Rep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Inversio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Translo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A5F-19AC-48F4-8ED1-A87C705D004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2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Consider a normal chromosome with genes in alphabetical order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d e f g h 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1. Deletion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part of the chromosome has been removed: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g h i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2. Dupliction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part of the chromosome is duplicated:  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d e f 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d e f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 g h 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3. Inversion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part of the chromosome has been re-inserted in reverse order: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f </a:t>
            </a:r>
            <a:r>
              <a:rPr b="0" lang="en-US" sz="2000" spc="-1" strike="noStrike">
                <a:solidFill>
                  <a:srgbClr val="66ffcc"/>
                </a:solidFill>
                <a:latin typeface="Century Schoolbook"/>
              </a:rPr>
              <a:t>e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d g h 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4.</a:t>
            </a: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Rings: 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A portion of a chromosome has broken off and formed a circle or ring. This can happen with or without loss of genetic material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entury Schoolbook"/>
              </a:rPr>
              <a:t>5. translocation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parts of two non-homologous chromosomes are joined: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f one normal chromosome is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d e f g h i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and the other chromosome is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u v w x y z,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then a translocation between them would be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a b c d e f x y z</a:t>
            </a: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  and </a:t>
            </a:r>
            <a:r>
              <a:rPr b="0" lang="en-US" sz="2000" spc="-1" strike="noStrike">
                <a:solidFill>
                  <a:srgbClr val="ff9900"/>
                </a:solidFill>
                <a:latin typeface="Century Schoolbook"/>
              </a:rPr>
              <a:t>u v w g h i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E95C-D998-48B9-A13D-C83626A28A8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152280" y="0"/>
            <a:ext cx="8534520" cy="6324480"/>
          </a:xfrm>
          <a:prstGeom prst="rect">
            <a:avLst/>
          </a:prstGeom>
          <a:ln w="0">
            <a:noFill/>
          </a:ln>
        </p:spPr>
      </p:pic>
      <p:sp>
        <p:nvSpPr>
          <p:cNvPr id="45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8664-F619-4CB2-922A-61C382F5186F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11AE-2AE8-4D8C-A7B2-F7B89A9ADD3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1657440" y="1309680"/>
            <a:ext cx="5829120" cy="4238640"/>
          </a:xfrm>
          <a:prstGeom prst="rect">
            <a:avLst/>
          </a:prstGeom>
          <a:ln w="0">
            <a:noFill/>
          </a:ln>
        </p:spPr>
      </p:pic>
      <p:sp>
        <p:nvSpPr>
          <p:cNvPr id="456" name="TextBox 3"/>
          <p:cNvSpPr/>
          <p:nvPr/>
        </p:nvSpPr>
        <p:spPr>
          <a:xfrm>
            <a:off x="152280" y="60948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Structural chromosomal aberration; Ring 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9900"/>
                </a:solidFill>
                <a:uFillTx/>
                <a:latin typeface="Century Schoolbook"/>
              </a:rPr>
              <a:t>Deletion in Human</a:t>
            </a:r>
            <a:r>
              <a:rPr b="1" lang="en-US" sz="2800" spc="-1" strike="noStrike">
                <a:solidFill>
                  <a:srgbClr val="ff990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 deletions are usually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lethal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ven as heterozygot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resulting in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zygotic los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tillbirth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or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nfant dea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times, infants with small chromosome deficiencies however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surv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long enough to permit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bnormal phenotype they expres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257C-7392-4703-8760-A0962CBB407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ri-du-chat (Cat cry syndrome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name of the syndrome came from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atlike mewing cr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rom small weak infants with the disorde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her characteristics ar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icrocephal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small head)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road fac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add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=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سرج الدابة أو صهوة الفرس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se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hysical and mental retardation.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ri-du-chat patient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ie in infancy or early childhoo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hromosome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deficiency is in the short arm of chromosome 5</a:t>
            </a:r>
            <a:r>
              <a:rPr b="1" lang="en-US" sz="2400" spc="-1" strike="noStrike">
                <a:solidFill>
                  <a:srgbClr val="feb687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Myelocytic leukemi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other human disorder that is associated with a chromosome abnormality i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hronic myelocytic leukemi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 deletion of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22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as described by P.C.Nowell and Hungerford and was called </a:t>
            </a:r>
            <a:r>
              <a:rPr b="1" lang="ja-JP" sz="2400" spc="-1" strike="noStrike">
                <a:solidFill>
                  <a:srgbClr val="ff99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Philadelphia</a:t>
            </a: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(Ph</a:t>
            </a:r>
            <a:r>
              <a:rPr b="1" lang="ja-JP" sz="2400" spc="-1" strike="noStrike">
                <a:solidFill>
                  <a:srgbClr val="000000"/>
                </a:solidFill>
                <a:latin typeface="Century Schoolbook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romosom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fter the city in which the discovery was mad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entury Schoolbook"/>
              </a:rPr>
              <a:t>Duplicat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resence of an additional chromosome segment, as compared to that normally present in a nucleus is known a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Dupl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a diploid organism, presence of a chromosome segment i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ore than two copies per nucleus is called dupl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 types of duplicatio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Tandem du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Reverse tandem du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Displaced du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4. Translocation dupli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7E67-4048-4A76-B63B-5DFA0F25078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extra chromosome segment may be locate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immediately after the normal segment in precisely the same orient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forms the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andem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= 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ترادفي – واحد تلو الأخر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gene sequence in the extra segment of a tandem in the reverse ord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.e, inverted , it is known as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andem duplic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some cases, the extra segment may be located in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ame chromosome but away from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normal segment – termed as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displaced duplicatio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additional chromosome segment is located i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 non-homologou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chromosome is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ranslocation dupli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4D6B-7D6C-4525-B70E-A4A56A94423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9900"/>
                </a:solidFill>
                <a:uFillTx/>
                <a:latin typeface="Century Schoolbook"/>
              </a:rPr>
              <a:t>Inversion: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a segment of chromosome i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riented in the reverse direc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such segment said to be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vert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the phenomenon is termed a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vers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ersion occur when parts of chromosomes become detached , turn through 18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Schoolbook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are reinserted in such a way that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e genes are in reversed order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version may be classified into two types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Pericentric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lude the centrome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Century Schoolbook"/>
              </a:rPr>
              <a:t>Paracentric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 not include the centrome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B9B1-FC1B-4981-9F9E-24455D5DDBA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NUMBER OF CHROMOSOM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ormally, all the individuals of a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species have the same number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f chromosomes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Closely related species usually have similar chromosome numbers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Presence of a whole sets of chromosomes is called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euploidy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It includes haploids, diploids, triploids, tetraploids etc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Gametes normally contain only one set of chromosome – this number is called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Hapl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omatic cells usually contain two sets of chromosome  -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2n : Dipl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94FD-0D12-481D-9CC7-6DE21886F47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"/>
          <p:cNvPicPr/>
          <p:nvPr/>
        </p:nvPicPr>
        <p:blipFill>
          <a:blip r:embed="rId1"/>
          <a:srcRect l="0" t="0" r="0" b="4863"/>
          <a:stretch/>
        </p:blipFill>
        <p:spPr>
          <a:xfrm>
            <a:off x="1143000" y="1066680"/>
            <a:ext cx="6861240" cy="45720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3E38-C9CF-42C2-9FB0-441FE28C19B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52280" y="4568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Century Schoolbook"/>
              </a:rPr>
              <a:t>Translocation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tegration of a chromosome segment into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non-homologous chromos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known as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ranslo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ree types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. Simple transloca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. Shif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3. Reciprocal transloca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0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9EA3-7C04-4DBE-912D-152130F0C471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Simple translo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In this case,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terminal segment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a chromosome i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tegrate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t one end of a non-homologous region.  Simple translocations are rather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ra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Shif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In shift, an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tercalary segment= not terminal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a chromosome i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integrated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thin a non-homologous chromosome. Such translocations are known in the populations of </a:t>
            </a:r>
            <a:r>
              <a:rPr b="0" i="1" lang="en-US" sz="2400" spc="-1" strike="noStrike">
                <a:solidFill>
                  <a:srgbClr val="ff9900"/>
                </a:solidFill>
                <a:latin typeface="Century Schoolbook"/>
              </a:rPr>
              <a:t>Drosophi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400" spc="-1" strike="noStrike">
                <a:solidFill>
                  <a:srgbClr val="ff9900"/>
                </a:solidFill>
                <a:latin typeface="Century Schoolbook"/>
              </a:rPr>
              <a:t>Neurospora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tc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Reciprocal = </a:t>
            </a:r>
            <a:r>
              <a:rPr b="1" lang="ar-SA" sz="2400" spc="-1" strike="noStrike">
                <a:solidFill>
                  <a:srgbClr val="ff9900"/>
                </a:solidFill>
                <a:latin typeface="Times New Roman"/>
              </a:rPr>
              <a:t>تبادلي أو متبادل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ransloc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It is produced when two non-homologous chromosomes exchange segments – i.e., segments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reciprocall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nsferred. Translocation of this type is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ost common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BA9B-0A57-4732-8A75-ABDA75AD3248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5960" y="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VARIATION IN CHROMOSOME NUMBER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Organism with a complete set of chromosomes is said to b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Century Schoolbook"/>
              </a:rPr>
              <a:t>euploid 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(applies to haploids, diploids, triploids, tetraploids 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entury Schoolbook"/>
              </a:rPr>
              <a:t>Aneuploidy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 - variation in the number of individual chromosomes (but not the total number of sets of chromosomes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The discovery of aneuploidy dates back to 1916 when</a:t>
            </a:r>
            <a:r>
              <a:rPr b="0" lang="en-US" sz="2300" spc="-1" strike="noStrike">
                <a:solidFill>
                  <a:srgbClr val="ff9900"/>
                </a:solidFill>
                <a:latin typeface="Century Schoolbook"/>
              </a:rPr>
              <a:t> Bridges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 discovered XO male and XXY female </a:t>
            </a:r>
            <a:r>
              <a:rPr b="1" i="1" lang="en-US" sz="2300" spc="-1" strike="noStrike">
                <a:solidFill>
                  <a:srgbClr val="ff9900"/>
                </a:solidFill>
                <a:latin typeface="Century Schoolbook"/>
              </a:rPr>
              <a:t>Drosophila</a:t>
            </a: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, which had 7 and 9 chromosomes respectively, instead of normal 8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7E85-5942-41DF-9F7B-69522AFCD9A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151920" y="1036800"/>
            <a:ext cx="541044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Nullisom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loss of one homologous chromosome               pair. (e.g., Oat =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نبات الشوفان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Monosomy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loss of a                single chromosome               (Maize)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risom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 one extra chromosome. (Datura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Tetrasom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- one extra chromosome pair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rcRect l="0" t="0" r="0" b="3778"/>
          <a:stretch/>
        </p:blipFill>
        <p:spPr>
          <a:xfrm>
            <a:off x="4800600" y="914400"/>
            <a:ext cx="4343400" cy="594360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>
            <a:off x="380880" y="228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More about Aneuploi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4B49-F9B9-45D6-B157-A2158ADCA302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61084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TRISOMY IN HUMAN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320" y="761760"/>
            <a:ext cx="89913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entury Schoolbook"/>
              </a:rPr>
              <a:t>Down Syndrom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est kn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ost comm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 related syndrom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merly known as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Mongolism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866, when a physician named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John Langdon Dow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ublished an essay in England in which 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escribed a set of children with common features who were distinct from other childre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ental retardatio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he referred to as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Mongoloid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e child in every 800-1000 births has Down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50,000 in US has Down syndro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cost and maintaining Down syndrome case in US is estimated at $ 1 billion per ye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F2E5-E9D7-46DC-A68C-6F3F437CF7E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tients having Down syndrome will b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hort in statur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four feet tall)  and had a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picanthal fol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broad short skul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wild nostri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large tongue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tubby= </a:t>
            </a:r>
            <a:r>
              <a:rPr b="0" lang="ar-SA" sz="2400" spc="-1" strike="noStrike">
                <a:solidFill>
                  <a:srgbClr val="ff0000"/>
                </a:solidFill>
                <a:latin typeface="Century Schoolbook"/>
              </a:rPr>
              <a:t>قصير و بدين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a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e babies may hav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hort neck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mall hand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hort fing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y are characterized a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low in mentality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own syndrome results if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xtra chromosome is number 21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0" algn="just"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A685-C42E-454C-B048-0C09C2EBE0B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7631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Amniocentesis for Detecting Aneuploidy:-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hromosomal abnormalities are sufficiently well understood to permit genetic counseling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fetus may be checked in early stages of development by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karyotyping the cultured cell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btained by a process called </a:t>
            </a:r>
            <a:r>
              <a:rPr b="1" i="1" lang="en-US" sz="2200" spc="-1" strike="noStrike">
                <a:solidFill>
                  <a:srgbClr val="ff9900"/>
                </a:solidFill>
                <a:latin typeface="Century Schoolbook"/>
              </a:rPr>
              <a:t>amniocentesi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 sample of fluid will taken from mother and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fetal cell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e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cultured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after a period of two to three week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chromosomes in dividing cells can be stained and observed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f </a:t>
            </a:r>
            <a:r>
              <a:rPr b="0" lang="en-US" sz="2200" spc="-1" strike="noStrike">
                <a:solidFill>
                  <a:srgbClr val="ff9900"/>
                </a:solidFill>
                <a:latin typeface="Century Schoolbook"/>
              </a:rPr>
              <a:t>three No.21 chromosome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are present, </a:t>
            </a:r>
            <a:r>
              <a:rPr b="0" lang="en-US" sz="2200" spc="-1" strike="noStrike">
                <a:solidFill>
                  <a:srgbClr val="ff9900"/>
                </a:solidFill>
                <a:latin typeface="Century Schoolbook"/>
              </a:rPr>
              <a:t>Down syndrome  is confirmed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 risk for mothers less than 25 years of age to have the trisomy is about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1 in 1500 birth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t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40 years of age, 1 in 100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birth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t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45 years 1 in 40 births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EF32-8D9A-468E-9AC3-DA5F4094F87A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839080" cy="650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ther Syndr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Nomencla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47, +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formu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2n+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linical Syndr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Trisomy-1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Estimated Frequency Bir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1/20,000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Main Phenotypic Characteristic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ental deficienc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eafnes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minor muscle seizur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left lip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 cardiac anomali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794A-CA09-4E89-A96A-61A482ECB41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6108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ther Syndrom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</a:t>
            </a: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Nomencla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45, 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Chromosome formul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2n -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Clinical Syndr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Turn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Estimated Frequency Birt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1/2,500 femal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entury Schoolbook"/>
              </a:rPr>
              <a:t>Main Phenotypic Characteristic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Fema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retarded sexual develop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usual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teril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hort sta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ebbing = </a:t>
            </a:r>
            <a:r>
              <a:rPr b="0" lang="ar-SA" sz="2400" spc="-1" strike="noStrike">
                <a:solidFill>
                  <a:srgbClr val="000000"/>
                </a:solidFill>
                <a:latin typeface="Century Schoolbook"/>
                <a:cs typeface="Times New Roman"/>
              </a:rPr>
              <a:t>حزام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skin in neck region,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cardiovascular abnormaliti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earing impairme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B094-6F33-49C9-8969-D4E1625B222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8839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n – tripl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4n – tetraploid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ondition in which the chromosomes sets are present in a multiples of </a:t>
            </a:r>
            <a:r>
              <a:rPr b="0" lang="ja-JP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ja-JP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Polyploidy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a change in the chromosome number does not involve entire sets of chromosomes, but only a few of the chromosomes is called </a:t>
            </a:r>
            <a:r>
              <a:rPr b="1" lang="en-US" sz="2600" spc="-1" strike="noStrike">
                <a:solidFill>
                  <a:srgbClr val="ff9900"/>
                </a:solidFill>
                <a:latin typeface="Comic Sans MS"/>
              </a:rPr>
              <a:t>Aneuploidy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Monosomics (2n-1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Trisomics (2n+1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Nullisomics (2n-2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Comic Sans MS"/>
              </a:rPr>
              <a:t>Tetrasomics (2n+2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1C24-2E49-4802-8DA6-6106EDD284EB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Other Syndrom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Nomenclatur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47, XXY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48, XXXY, 48,XXYY, 49, XXXXY, 50, XXXXX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e formula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2n+1; 2n+2; 2n+2; 2n+3; 2n+4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linical Syndrom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Klinefelt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Estimated Frequency Birth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 1/500 male birt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Main Phenotypic Characteristic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Pitched= </a:t>
            </a:r>
            <a:r>
              <a:rPr b="1" lang="ar-SA" sz="2400" spc="-1" strike="noStrike">
                <a:solidFill>
                  <a:srgbClr val="ff0000"/>
                </a:solidFill>
                <a:latin typeface="Century Schoolbook"/>
              </a:rPr>
              <a:t>مش كويس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voic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al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sub fertile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with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small teste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developed breast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feminine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long limbs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07B4-263C-4425-A283-AF70BD7D3A76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DOSAGE COMPENSATION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Sex Chromosomes: females XX, males  X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emales have two copies of every X-linked gene; males have only on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ow is this difference in gene dosage compensated for? 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How to create equal amount of X chromosome gene products in males and female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BAFC-C2C8-4507-9F23-531F242E96E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-360" y="22860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evels of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enzymes or protein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ncoded by genes o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e X chromos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re 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the same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both males and fema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ven though males have 1 X chromosome and females have 2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G6PD, glucose 6 phosphate dehydrogenase gene is carried on the X chromoso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his gene codes for an enzyme that breaks down suga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Females produce the same amount of G6PD enzyme as m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XXY and XXX individuals produce the same amount of G6PD as anyone els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31EE-009D-4BB3-8628-60C38B336AF3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87631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cells with more than two X chromosomes, on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ne X remains genetically activ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nd all the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thers become inactivate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some cells the paternal allele is expressed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other cells the maternal allele is expressed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XXX and XXXX females and XXY males on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1 X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s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activated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n any given cell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he rest are inactivate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9471-5BB2-4F2A-9395-8534C84CF64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4" descr="0225al"/>
          <p:cNvPicPr/>
          <p:nvPr/>
        </p:nvPicPr>
        <p:blipFill>
          <a:blip r:embed="rId1"/>
          <a:srcRect l="0" t="3000" r="0" b="0"/>
          <a:stretch/>
        </p:blipFill>
        <p:spPr>
          <a:xfrm>
            <a:off x="152280" y="609480"/>
            <a:ext cx="8686800" cy="5410440"/>
          </a:xfrm>
          <a:prstGeom prst="rect">
            <a:avLst/>
          </a:prstGeom>
          <a:ln w="0">
            <a:noFill/>
          </a:ln>
        </p:spPr>
      </p:pic>
      <p:sp>
        <p:nvSpPr>
          <p:cNvPr id="50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7167-C001-45EC-B054-19A5F8D71A6C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244583"/>
                </a:solidFill>
                <a:latin typeface="Century Schoolbook"/>
              </a:rPr>
              <a:t>THE KARYOTYPE ; </a:t>
            </a:r>
            <a:r>
              <a:rPr b="1" lang="en-GB" sz="2400" spc="-1" strike="noStrike">
                <a:solidFill>
                  <a:srgbClr val="244583"/>
                </a:solidFill>
                <a:latin typeface="Century Schoolbook"/>
              </a:rPr>
              <a:t>an international description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76320" y="167652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Schoolbook"/>
              </a:rPr>
              <a:t>Karyotypes are described by an internationally recognised forma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A normal male chromosome pattern would be described as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44583"/>
                </a:solidFill>
                <a:latin typeface="Century Schoolbook"/>
              </a:rPr>
              <a:t>4</a:t>
            </a:r>
            <a:r>
              <a:rPr b="1" sz="2200" spc="-1" strike="noStrike">
                <a:solidFill>
                  <a:srgbClr val="244583"/>
                </a:solidFill>
                <a:latin typeface="Century Schoolbook"/>
              </a:rPr>
              <a:t>6,XY</a:t>
            </a:r>
            <a:r>
              <a:rPr b="1" lang="en-GB" sz="2200" spc="-1" strike="noStrike">
                <a:solidFill>
                  <a:srgbClr val="244583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46 =  </a:t>
            </a:r>
            <a:r>
              <a:rPr b="0" sz="2200" spc="-1" strike="noStrike">
                <a:solidFill>
                  <a:srgbClr val="000000"/>
                </a:solidFill>
                <a:latin typeface="Century Schoolbook"/>
              </a:rPr>
              <a:t>total number of chromosom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XY = </a:t>
            </a:r>
            <a:r>
              <a:rPr b="0" sz="2200" spc="-1" strike="noStrike">
                <a:solidFill>
                  <a:srgbClr val="000000"/>
                </a:solidFill>
                <a:latin typeface="Century Schoolbook"/>
              </a:rPr>
              <a:t>sex chromosome constitutio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entury Schoolbook"/>
              </a:rPr>
              <a:t>(XY = male, XX = female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Any further description would refer to </a:t>
            </a:r>
            <a:r>
              <a:rPr b="0" lang="en-GB" sz="2000" spc="-1" strike="noStrike">
                <a:solidFill>
                  <a:srgbClr val="ff0000"/>
                </a:solidFill>
                <a:latin typeface="Century Schoolbook"/>
              </a:rPr>
              <a:t>any </a:t>
            </a:r>
            <a:r>
              <a:rPr b="0" sz="2000" spc="-1" strike="noStrike">
                <a:solidFill>
                  <a:srgbClr val="ff0000"/>
                </a:solidFill>
                <a:latin typeface="Century Schoolbook"/>
              </a:rPr>
              <a:t>abnormalities</a:t>
            </a:r>
            <a:r>
              <a:rPr b="0" lang="en-GB" sz="2000" spc="-1" strike="noStrike">
                <a:solidFill>
                  <a:srgbClr val="ff0000"/>
                </a:solidFill>
                <a:latin typeface="Century Schoolbook"/>
              </a:rPr>
              <a:t> or v</a:t>
            </a:r>
            <a:r>
              <a:rPr b="0" sz="2000" spc="-1" strike="noStrike">
                <a:solidFill>
                  <a:srgbClr val="ff0000"/>
                </a:solidFill>
                <a:latin typeface="Century Schoolbook"/>
              </a:rPr>
              <a:t>ariants</a:t>
            </a:r>
            <a:r>
              <a:rPr b="0" lang="en-GB" sz="20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found (see following slide for examples)</a:t>
            </a: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F2D1-BED6-4390-BE78-41AB2EA6EC9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228600" y="785880"/>
            <a:ext cx="891540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Total number of chromosomes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lang="en-GB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Sex chromosome constitution,</a:t>
            </a:r>
            <a:r>
              <a:rPr b="0" sz="2200" spc="-1" strike="noStrike">
                <a:solidFill>
                  <a:srgbClr val="000066"/>
                </a:solidFill>
                <a:latin typeface="Century Schoolbook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1" sz="2200" spc="-1" strike="noStrike">
                <a:solidFill>
                  <a:srgbClr val="000066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Anormalies/vari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46,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47,XX,+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47,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ff0000"/>
                </a:solidFill>
                <a:latin typeface="Century Schoolbook"/>
              </a:rPr>
              <a:t>69,X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7598d9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244583"/>
                </a:solidFill>
                <a:latin typeface="Century Schoolbook"/>
              </a:rPr>
              <a:t>45,XX,</a:t>
            </a:r>
            <a:r>
              <a:rPr b="1" lang="en-GB" sz="2000" spc="-1" strike="noStrike">
                <a:solidFill>
                  <a:srgbClr val="244583"/>
                </a:solidFill>
                <a:latin typeface="Century Schoolbook"/>
              </a:rPr>
              <a:t>der</a:t>
            </a:r>
            <a:r>
              <a:rPr b="1" sz="2000" spc="-1" strike="noStrike">
                <a:solidFill>
                  <a:srgbClr val="244583"/>
                </a:solidFill>
                <a:latin typeface="Century Schoolbook"/>
              </a:rPr>
              <a:t>(13;14)(q10;q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244583"/>
                </a:solidFill>
                <a:latin typeface="Century Schoolbook"/>
              </a:rPr>
              <a:t>46,XY,t(2;4)(p12;q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66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46,XX,del(5)(p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46,XX,dup(2)(p13p2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b0f0"/>
                </a:solidFill>
                <a:latin typeface="Century Schoolbook"/>
              </a:rPr>
              <a:t>46,XY,inv(11)(p15q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7030a0"/>
                </a:solidFill>
                <a:latin typeface="Century Schoolbook"/>
              </a:rPr>
              <a:t>46,XY,fra(X)(q27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2000" spc="-1" strike="noStrike">
                <a:solidFill>
                  <a:srgbClr val="00b050"/>
                </a:solidFill>
                <a:latin typeface="Century Schoolbook"/>
              </a:rPr>
              <a:t>46,XY/47,X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76320" y="15228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44583"/>
                </a:solidFill>
                <a:latin typeface="Cambria"/>
                <a:ea typeface="Arial"/>
              </a:rPr>
              <a:t>The Karyotype: an international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"/>
          <p:cNvSpPr/>
          <p:nvPr/>
        </p:nvSpPr>
        <p:spPr>
          <a:xfrm>
            <a:off x="762120" y="1214280"/>
            <a:ext cx="571320" cy="1500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5"/>
          <p:cNvSpPr/>
          <p:nvPr/>
        </p:nvSpPr>
        <p:spPr>
          <a:xfrm flipH="1">
            <a:off x="1828440" y="1752480"/>
            <a:ext cx="500040" cy="9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 flipH="1">
            <a:off x="2514240" y="2362320"/>
            <a:ext cx="2500200" cy="785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A813-DE30-43D8-B697-189F5CF7445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Footer Placeholder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919D-1005-494F-BAD1-2BFC357C510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3"/>
          <p:cNvSpPr/>
          <p:nvPr/>
        </p:nvSpPr>
        <p:spPr>
          <a:xfrm>
            <a:off x="152280" y="609480"/>
            <a:ext cx="8763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he number refers to the number of chromosomes whilst the X and Y refer to the sex chromosomes, e.g. 46 XX would be a healthy female,46 XY a healthy m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Thereafter any chromosomal abnormalities or findings are described by recognised abbreviations and location is given of the affected part of the chromoso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e.g. 46,XX,dup(2)(p13p22)   describes a female with 46 chromosomes and a duplication of the short arm of chromosome 2 from bands 13 -2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ragile X syndrome; inherited condition characterized by an X chromosome that is abnormally susceptible to damage, especially by folic acid deficiency. The affected individuals tend to have limited intellectual fun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333360" y="857160"/>
            <a:ext cx="85248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Total number of chromosomes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Sex chromosome constitution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entury Schoolbook"/>
              </a:rPr>
              <a:t>Anomalies/vari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0000"/>
                </a:solidFill>
                <a:latin typeface="Century Schoolbook"/>
              </a:rPr>
              <a:t>46,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47,XX,+21   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 </a:t>
            </a:r>
            <a:r>
              <a:rPr b="0" i="1" sz="1800" spc="-1" strike="noStrike">
                <a:solidFill>
                  <a:srgbClr val="ff0000"/>
                </a:solidFill>
                <a:latin typeface="Century Schoolbook"/>
              </a:rPr>
              <a:t>Trisomy 21 (Down syndro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47,XXX         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ff0000"/>
                </a:solidFill>
                <a:latin typeface="Century Schoolbook"/>
              </a:rPr>
              <a:t>Triple X syn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69,XXY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ff000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ff0000"/>
                </a:solidFill>
                <a:latin typeface="Century Schoolbook"/>
              </a:rPr>
              <a:t>Triploid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7598d9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45,XX,der(13;14)(p11;q11)  </a:t>
            </a: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244583"/>
                </a:solidFill>
                <a:latin typeface="Century Schoolbook"/>
              </a:rPr>
              <a:t>Robertsonian trans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46,XY,t(2;4)(p12;q12) </a:t>
            </a:r>
            <a:r>
              <a:rPr b="1" sz="1800" spc="-1" strike="noStrike">
                <a:solidFill>
                  <a:srgbClr val="244583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244583"/>
                </a:solidFill>
                <a:latin typeface="Century Schoolbook"/>
              </a:rPr>
              <a:t>Reciprocal trans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6600"/>
                </a:solidFill>
                <a:latin typeface="Century Schoolbook"/>
              </a:rPr>
              <a:t>	</a:t>
            </a:r>
            <a:br>
              <a:rPr sz="1800"/>
            </a:br>
            <a:r>
              <a:rPr b="1" sz="1800" spc="-1" strike="noStrike">
                <a:solidFill>
                  <a:srgbClr val="0066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46,XX,del(5)(p25)   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0070c0"/>
                </a:solidFill>
                <a:latin typeface="Century Schoolbook"/>
              </a:rPr>
              <a:t>Deletion tip of chromosom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46,XX,dup(2)(p13p22)   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0070c0"/>
                </a:solidFill>
                <a:latin typeface="Century Schoolbook"/>
              </a:rPr>
              <a:t>Duplication of part of short arm Ch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46,XY,inv(11)(p15q14)   </a:t>
            </a: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0070c0"/>
                </a:solidFill>
                <a:latin typeface="Century Schoolbook"/>
              </a:rPr>
              <a:t>Pericentric inversion chromosom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70c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7030a0"/>
                </a:solidFill>
                <a:latin typeface="Century Schoolbook"/>
              </a:rPr>
              <a:t>46,XY,fra(X)(q27.3)      </a:t>
            </a:r>
            <a:r>
              <a:rPr b="1" sz="1800" spc="-1" strike="noStrike">
                <a:solidFill>
                  <a:srgbClr val="7030a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7030a0"/>
                </a:solidFill>
                <a:latin typeface="Century Schoolbook"/>
              </a:rPr>
              <a:t>Fragile X syn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sz="1800" spc="-1" strike="noStrike">
                <a:solidFill>
                  <a:srgbClr val="00b050"/>
                </a:solidFill>
                <a:latin typeface="Century Schoolbook"/>
              </a:rPr>
              <a:t>46,XY/47,XXY           </a:t>
            </a:r>
            <a:r>
              <a:rPr b="1" sz="1800" spc="-1" strike="noStrike">
                <a:solidFill>
                  <a:srgbClr val="00b050"/>
                </a:solidFill>
                <a:latin typeface="Century Schoolbook"/>
              </a:rPr>
              <a:t>	</a:t>
            </a:r>
            <a:r>
              <a:rPr b="0" i="1" sz="1800" spc="-1" strike="noStrike">
                <a:solidFill>
                  <a:srgbClr val="00b050"/>
                </a:solidFill>
                <a:latin typeface="Century Schoolbook"/>
              </a:rPr>
              <a:t>Mosaicism normal/Klinefelter syndr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0" y="304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44583"/>
                </a:solidFill>
                <a:latin typeface="Cambria"/>
                <a:ea typeface="Arial"/>
              </a:rPr>
              <a:t>The Karyotype: an international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>
            <a:off x="971640" y="1143000"/>
            <a:ext cx="399960" cy="13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"/>
          <p:cNvSpPr/>
          <p:nvPr/>
        </p:nvSpPr>
        <p:spPr>
          <a:xfrm flipH="1">
            <a:off x="1981080" y="1676520"/>
            <a:ext cx="21600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9"/>
          <p:cNvSpPr/>
          <p:nvPr/>
        </p:nvSpPr>
        <p:spPr>
          <a:xfrm flipH="1">
            <a:off x="2438280" y="2286000"/>
            <a:ext cx="221472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ooter Placeholder 7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6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2056-9006-4C26-BEC8-EDD9B5119DF4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899136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 u="sng">
                <a:solidFill>
                  <a:srgbClr val="244583"/>
                </a:solidFill>
                <a:uFillTx/>
                <a:latin typeface="Century Schoolbook"/>
              </a:rPr>
              <a:t>CHROMOSOMAL FINDINGS IN EARLY MISCARRIAGES = </a:t>
            </a:r>
            <a:r>
              <a:rPr b="1" i="1" lang="ar-SA" sz="2600" spc="-1" strike="noStrike" u="sng">
                <a:solidFill>
                  <a:srgbClr val="244583"/>
                </a:solidFill>
                <a:uFillTx/>
                <a:latin typeface="Century Schoolbook"/>
                <a:cs typeface="Times New Roman"/>
              </a:rPr>
              <a:t>الاجهاض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B3C5-F8F0-4567-B3F9-B4C30CEC6A16}" type="slidenum"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152280" y="1143000"/>
            <a:ext cx="8839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14440" indent="-514440" algn="just">
              <a:lnSpc>
                <a:spcPct val="100000"/>
              </a:lnSpc>
              <a:buClr>
                <a:srgbClr val="244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44583"/>
                </a:solidFill>
                <a:latin typeface="Cambria"/>
              </a:rPr>
              <a:t>40% apparently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244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24458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44583"/>
                </a:solidFill>
                <a:latin typeface="Cambria"/>
              </a:rPr>
              <a:t>60% abnormal</a:t>
            </a:r>
            <a:r>
              <a:rPr b="1" lang="en-GB" sz="2400" spc="-1" strike="noStrike">
                <a:solidFill>
                  <a:srgbClr val="244583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Trisomy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 (47 chromosomes – one extra)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45,X (45 chromosomes – one missing)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Triploidy (69 chromosomes – three sets)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 u="sng">
                <a:solidFill>
                  <a:srgbClr val="000000"/>
                </a:solidFill>
                <a:uFillTx/>
                <a:latin typeface="Cambria"/>
              </a:rPr>
              <a:t>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Tetraploidy (92 chromosomes – four sets)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Other chromosome anomalies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mbria"/>
              </a:rPr>
              <a:t>(e.g. structural anomal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60948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2611c"/>
                </a:solidFill>
                <a:latin typeface="Comic Sans MS"/>
              </a:rPr>
              <a:t>Organism</a:t>
            </a:r>
            <a:r>
              <a:rPr b="1" lang="en-US" sz="3600" spc="-1" strike="noStrike">
                <a:solidFill>
                  <a:srgbClr val="d2611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2611c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2611c"/>
                </a:solidFill>
                <a:latin typeface="Comic Sans MS"/>
              </a:rPr>
              <a:t>No. chromosomes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4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mpanz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7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icke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ldfish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9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uit fl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quit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matod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(m), 12(f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rseta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21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quoi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nd worm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533520" y="228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33520" y="66294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365760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53352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8458200" y="228600"/>
            <a:ext cx="0" cy="640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A237-80DE-46B0-B5BC-CE80A20DE68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9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Organism</a:t>
            </a: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d2611c"/>
                </a:solidFill>
                <a:latin typeface="Comic Sans MS"/>
              </a:rPr>
              <a:t>       No. chromosom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i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l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rro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ma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bacc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ic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z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Haploppus gracilis 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Crepis capillaris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609480" y="114300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9"/>
          <p:cNvSpPr/>
          <p:nvPr/>
        </p:nvSpPr>
        <p:spPr>
          <a:xfrm>
            <a:off x="609480" y="53352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0"/>
          <p:cNvSpPr/>
          <p:nvPr/>
        </p:nvSpPr>
        <p:spPr>
          <a:xfrm>
            <a:off x="609480" y="5943600"/>
            <a:ext cx="7239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1"/>
          <p:cNvSpPr/>
          <p:nvPr/>
        </p:nvSpPr>
        <p:spPr>
          <a:xfrm>
            <a:off x="609480" y="5335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"/>
          <p:cNvSpPr/>
          <p:nvPr/>
        </p:nvSpPr>
        <p:spPr>
          <a:xfrm>
            <a:off x="7848720" y="5335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3"/>
          <p:cNvSpPr/>
          <p:nvPr/>
        </p:nvSpPr>
        <p:spPr>
          <a:xfrm>
            <a:off x="4267080" y="5335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8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80E8-B8E5-4F69-9988-1015E18F240D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9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  <a:ea typeface="Arial"/>
              </a:rPr>
              <a:t>Dr MOHAMED FAKH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5960" y="-3060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Century Schoolbook"/>
              </a:rPr>
              <a:t>EUCHROMATIN AND HETEROCHROMATIN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romosomes may be identified by regions that stain in a particular manner when treated with various chemical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ral different chemical techniques are used to identify certain chromosomal regions by staining them so that they form 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chromosomal band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xampl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rker band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e generally found nea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centromere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 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the ends (telomer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) of the chromosome, while other regions do not stain as strongly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position of the dark-staining are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heterochromatic regi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 heterochromat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Light staining are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euchromatic region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r </a:t>
            </a:r>
            <a:r>
              <a:rPr b="1" lang="en-US" sz="2400" spc="-1" strike="noStrike">
                <a:solidFill>
                  <a:srgbClr val="ff9900"/>
                </a:solidFill>
                <a:latin typeface="Century Schoolbook"/>
              </a:rPr>
              <a:t>euchromat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t is lightly packed in the form of DNA, RNA, and protein, it is definitely rich in gene concentration and is usually under active transcript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06D0-315C-4D1E-85A6-FF5A86846C95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7631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n the other hand, heterochromatin is a tightly packed form of DNA. It is commonly found on the peripheral areas of the nucleus. According to some studies, there are probably two or more states of heterochromatin.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Inactive satellite sequences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re the main constituents of heterochromatin. The heterochromatin is responsible for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gene regulation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d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protection of chromosomal integrity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. These roles are made possible because of the dense DNA packing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There are two groups of heterochromati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i)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Constitutive = </a:t>
            </a:r>
            <a:r>
              <a:rPr b="1" lang="ar-SA" sz="2200" spc="-1" strike="noStrike">
                <a:solidFill>
                  <a:srgbClr val="000000"/>
                </a:solidFill>
                <a:latin typeface="Century Schoolbook"/>
              </a:rPr>
              <a:t>تأسيسي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and (ii) 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Facultative = </a:t>
            </a:r>
            <a:r>
              <a:rPr b="1" lang="ar-SA" sz="2200" spc="-1" strike="noStrike">
                <a:solidFill>
                  <a:srgbClr val="000000"/>
                </a:solidFill>
                <a:latin typeface="Century Schoolbook"/>
              </a:rPr>
              <a:t>أختياري</a:t>
            </a:r>
            <a:r>
              <a:rPr b="1" lang="en-U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Constitutive heterochromatin remains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permanently in the heterochromatic stage,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 i.e., it does not revert to the euchromatic stag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In contrast, facultative heterochromatin consists of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euchromatin that takes on the staining and compactness characteristics of heterochromatin during some phase of development 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(Facultative regions can change from </a:t>
            </a:r>
            <a:r>
              <a:rPr b="0" lang="en-US" sz="2200" spc="-1" strike="noStrike">
                <a:solidFill>
                  <a:srgbClr val="ff0000"/>
                </a:solidFill>
                <a:latin typeface="Century Schoolbook"/>
              </a:rPr>
              <a:t>euchromatic to heterochromatic stage</a:t>
            </a: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9D0-0384-490A-BC87-7BE68A705637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-360" y="9140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hen the DNA of a prokaryote, such as E.coli, is isolated, fragmented and centrifuged to equilibrium in a Cesium chloride (CsCl) density gradient, the DNA usually forms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ingle band in the gradient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n the other hand, CsCl density-gradient analysis of DNA from eukaryotes usually reveals the presence of one large band of DNA (usually called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Mainband</a:t>
            </a:r>
            <a:r>
              <a:rPr b="0" lang="ja-JP" sz="2400" spc="-1" strike="noStrike">
                <a:solidFill>
                  <a:srgbClr val="ff0000"/>
                </a:solidFill>
                <a:latin typeface="Century School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DNA) and one to several small bands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se small bands are referred to as 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Century Schoolbook"/>
              </a:rPr>
              <a:t>Satellite DNAs</a:t>
            </a:r>
            <a:r>
              <a:rPr b="0" lang="ja-JP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r e.g., in Drosophila virilis, contain three distinct satellite DN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6431-9EF0-4B27-A1C7-19BE85015C3E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4"/>
          <p:cNvSpPr/>
          <p:nvPr/>
        </p:nvSpPr>
        <p:spPr>
          <a:xfrm>
            <a:off x="152280" y="152280"/>
            <a:ext cx="86108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Century Schoolbook"/>
                <a:ea typeface="Arial"/>
              </a:rPr>
              <a:t>Satellite D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entury Schoolbook"/>
              </a:rPr>
              <a:t>CHROMOSOMAL ABERRATION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somatic (2n) and gametic (n) chromosome numbers of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species ordinarily remain constant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s is due to the extreme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precise mitotic and meiotic cell division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omatic cells of a diploid species contai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two copies of each chromosom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hich are called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homologous chromosom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ir gametes, therefore contain only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ne copy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f each chromosome, that is they contain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one chromosome complement or genome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ach chromosome of a genome contains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efinite numbers and kinds of gene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which are arranged in a </a:t>
            </a: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definite sequence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8129520" y="57150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C727-A36E-4E2A-AA24-75C35F2635C0}" type="slidenum"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8:51:57Z</dcterms:created>
  <dc:creator>Sony</dc:creator>
  <dc:description/>
  <dc:language>en-US</dc:language>
  <cp:lastModifiedBy>Mohammed Fakhri</cp:lastModifiedBy>
  <dcterms:modified xsi:type="dcterms:W3CDTF">2016-10-10T09:51:39Z</dcterms:modified>
  <cp:revision>71</cp:revision>
  <dc:subject/>
  <dc:title>CHROMOSOE ANOMALIES  &amp; REPLICATION, TRANSCRPITION AND TRANSLATION</dc:title>
</cp:coreProperties>
</file>